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6849-181D-4196-BD47-DBB2EBD4F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189A-40A5-47AC-8B41-176E1FF8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4B74-FDB6-419D-9FE4-086693A4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D725-941C-4192-98BA-0C8F0C75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3EEE-344C-49D2-90FD-E2F73EF8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89CE-5F6B-4D2D-8E06-11B576E9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2532-B05E-4236-922B-FE04F7F3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F2A6-92ED-4389-9EDF-308839A9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61B9-DACC-4DAA-8337-EC04770F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8C5B-33CC-49FB-A68E-D9FE997A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3FCB-B643-4569-9812-81FF5B16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3619-026E-49AF-A23B-AC31A1B5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38120" y="223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0800" y="22392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61960" y="646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32040" y="646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7600" y="573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82640" y="1159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3680" y="906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188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626920" y="6243480"/>
            <a:ext cx="392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9DC8-666F-44D8-A16F-A873E00C07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00080" y="2438280"/>
            <a:ext cx="9009000" cy="1052640"/>
            <a:chOff x="10008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390600" y="2546280"/>
              <a:ext cx="711360" cy="474840"/>
              <a:chOff x="39060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39060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7364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514440" y="2968560"/>
              <a:ext cx="737640" cy="474840"/>
              <a:chOff x="51444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51444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08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10008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3512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1616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560" y="980640"/>
            <a:ext cx="77202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980640"/>
            <a:ext cx="769644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ahoma"/>
              </a:rPr>
              <a:t>Scattered Context Grammars: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Generation of Languages in a Semi-Parallel Way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8120" y="3860280"/>
            <a:ext cx="6985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dvaced VYP Materia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Related to VYP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1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2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}.  Assume th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, {a}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a SCG. In 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.  Thus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.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Consid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lt;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1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—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di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0591-C7E6-4805-A1AD-6EF53B1BF66D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2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53A3-F27E-4384-B8E7-FAC7BC55CE9E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B) reduction of the number of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D79C-F193-4F7D-9CC3-60C1BAE3B457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1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 product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a non-context-fre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with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language i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generated by a scattered context grammar with only these two context produ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3275-3537-4F42-B65C-95904E7B5175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2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Left-Extended Queue Gramm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ite set of productions of the form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 Every genera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has this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+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722D-5ACC-4B88-A6B2-C018555B0B2C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3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Sub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inary code of symbol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binary code of state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I. Introduction of SC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F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used to gene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477F-2188-4BD1-8C88-34681AC8DD5B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4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used to ver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t 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ac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0,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using ($, 0, 0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866A-0337-4221-AEB9-AA8731C3D50C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5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wo context productions characteriz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at is the power of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a single context produ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346F-84CA-45E7-9A9B-FCCD7A2E29B0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of SCG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0904-2613-498C-BD63-DA72FF185EC2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imultaneous Reduction (A) &amp;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imultaneous Reduction of the Number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nterminals and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Next two theorems proved in cooperation with H. Fernau (German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ven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ive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an we improve the above theorem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3BA2-7D44-4C18-A3A6-4207A8C92C36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ased on these Pape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Coincidental Extention of Scattered Context Languag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ta Informati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9, 307-31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On the Degree of Scattered Context-Sensitivity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oretical Computer Sci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90, 2121-212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Descriptional Complexity of Scattered Rewriting and Multirewriting: An Overview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ournal of Automata, Languages and Combinator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571-579, 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A Simultaneous Reduction of Several Measures of Descriptional Complexity in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Processing Lett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214-219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4B69-0962-46EC-8F9D-A4D5DB37FA7C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New Operation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: each production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atisfi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ive: Increase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y a simple language operation ov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DC8C-CA8E-42C0-A1A3-6856FF0BDAE7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1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#-extens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represents a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re are an infinitely many coincidental extension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writ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C927-12A4-4DE5-8D4E-5F45EF36B5D1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2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a#b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olds, bu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ho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i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incidental #-extension of any languag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D656-A27D-4CBD-BFAA-BAAA3ED96B21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3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re exists a SCG, G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. Construct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, P, 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#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so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momorphism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non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9439-59F2-455A-808F-74B657EE44F0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4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onstructed by performing the next six step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$)  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(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§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D8DC-0529-4D06-B5E9-CF5C30071E7A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5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dd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) to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enerates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n this wa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$}. In additio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§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nd only if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4E35-61EA-462D-8522-36599D283061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6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reater detai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expressed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3832-A647-41A5-A50C-6E9BA9DD5B95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Use in Theoretical Computer Scienc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i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 every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re exists a homomorphis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h that 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complex way, this result was proved on page 245 in [Greibach, S. A. and Hopcroft, J. E.: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. Comput. Syst. Sc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, 232-247 (1969)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658B-A1FD-4270-A145-AE4B2B74FC1C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uture Investig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ture Investig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k-limited 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 a non-negative integ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imited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225F-535E-485C-B581-3B051B09BA5E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ery Important Open Problem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ortant 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re exist a non-negative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such that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for so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o, I know how to prov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CE8F-134C-46CB-85BB-B86A1F6222F5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assification of Parallel Gramma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Tot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stems,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 of the sentential form during a single derivation step (not discussed in this talk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Parti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leaving the other symbols unrewritte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attered Context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rk in a partiall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llel wa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grammars ar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ntral to this tal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B7A1-5E87-4D9A-A878-EFCC2686A5F6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cattered Context Grammars (SCGs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parallel gramma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of several context-free productions during a single derivation ste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er than CF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 Topics under Discu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the grammatical si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language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7257-3F26-44F6-8F62-445F09FFD6C1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ncep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of context-free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ral nonterminals are rewritten in parallel while the rest of the sentential  form remains un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63F2-36D6-47D6-B8AC-091D0971D967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Defini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attered context gramma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in a CF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finite set of productions of the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with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1949-1F31-427F-B8CD-F9D34AB560F5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A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A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AbbAc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b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DAF4-701C-4224-9FF5-564D0519F129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tex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itiv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ursive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erabl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  with no more th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terminals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3A59-74DE-46F4-B83A-90C2190274FC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Reduction of SCG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simultaneous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35EF-B4D2-448D-94DD-7A3E38E76DF5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9:50:25Z</dcterms:created>
  <dc:creator>Jan Hrouzek</dc:creator>
  <dc:description/>
  <dc:language>en-US</dc:language>
  <cp:lastModifiedBy>Alexander Meduna</cp:lastModifiedBy>
  <dcterms:modified xsi:type="dcterms:W3CDTF">2005-10-09T19:37:59Z</dcterms:modified>
  <cp:revision>26</cp:revision>
  <dc:subject/>
  <dc:title>Scattered Context Grammars:  Generation of Languages in a Semi-Parallel W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619893</vt:r8>
  </property>
  <property fmtid="{D5CDD505-2E9C-101B-9397-08002B2CF9AE}" pid="3" name="_AuthorEmail">
    <vt:lpwstr>books@digibooks</vt:lpwstr>
  </property>
  <property fmtid="{D5CDD505-2E9C-101B-9397-08002B2CF9AE}" pid="4" name="_AuthorEmailDisplayName">
    <vt:lpwstr>books</vt:lpwstr>
  </property>
  <property fmtid="{D5CDD505-2E9C-101B-9397-08002B2CF9AE}" pid="5" name="_EmailSubject">
    <vt:lpwstr>Spain</vt:lpwstr>
  </property>
</Properties>
</file>